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F9C6-BA18-4ED5-A27A-B35DCE6F6E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2999-A893-40CB-8515-632797F22C6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0925-DD56-4AA8-8092-AF052C2E0BE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3ECD-36D8-4F7F-B9FE-9645F546BD8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C22B-21CF-43D2-A620-B110347EA33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DA40-33E6-4632-A1B5-8DE65E14A2D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63F91-CCC0-483E-B2FD-0E35A809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3AF27-DE3A-45D4-9FA3-31228823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B05E6-E809-41AD-8F1C-1BD2F109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E403E-3F13-4F4F-89AC-EE94791B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1F4B9-5E28-4181-9FD6-D8503947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D3A71-939A-494D-98CD-BC04ED8A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A1EBB-DC59-4293-A4B2-03B32711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9D7CB-825C-4A10-9606-0AA23EF7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74E44-D541-4D02-8030-47AD362E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680FF-12C4-4685-B279-FFF69FA3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8DCE1-E742-4E48-AF2F-883E428C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AE800-2FDE-4F67-B336-E56CCA3B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6DC51-2DF8-40CE-91B5-FBEC1E53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17434-6FD0-42A5-B990-1144CBFF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24ADD-CE9C-4B66-9AAF-544BDE39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01783-8955-4403-9E66-C17C0463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342ED-AEA5-4E81-8763-C0402E26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23724-8431-420F-8885-C14B2C82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984D7-E462-4FF6-B592-55F8F6BB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01027-D139-4932-A734-E79904EE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A7344-D183-4024-A2EC-C7FC3B71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5F57F-B426-481B-A69F-AE4471D7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F9BE3-A555-42B6-AB68-8839770F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5434A-58CD-419F-8519-46705B34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282F-AD61-420A-88EF-11FF24DE93D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1DF3-EF0A-4969-8FEC-12AC6ED96F2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A6D1-545E-44EB-9F40-1F1FA913D92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5C04-AAC2-43C6-8BA3-4267CCD2B95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0CDF-2186-4B17-A73C-9176BEE06D7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99B1-C89D-407F-9BEE-157A4EB3CB9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1ECC-0AD8-4967-947F-BE9520BB55A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68CB-B65E-4F0A-AD1D-10A18CB400E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42920" y="0"/>
            <a:ext cx="9001080" cy="6259680"/>
            <a:chOff x="142920" y="0"/>
            <a:chExt cx="9001080" cy="6259680"/>
          </a:xfrm>
        </p:grpSpPr>
        <p:grpSp>
          <p:nvGrpSpPr>
            <p:cNvPr id="521" name="그룹 1"/>
            <p:cNvGrpSpPr/>
            <p:nvPr/>
          </p:nvGrpSpPr>
          <p:grpSpPr>
            <a:xfrm>
              <a:off x="142920" y="500040"/>
              <a:ext cx="8929080" cy="5759640"/>
              <a:chOff x="142920" y="500040"/>
              <a:chExt cx="8929080" cy="5759640"/>
            </a:xfrm>
          </p:grpSpPr>
          <p:sp>
            <p:nvSpPr>
              <p:cNvPr id="522" name="AutoShape 2"/>
              <p:cNvSpPr/>
              <p:nvPr/>
            </p:nvSpPr>
            <p:spPr>
              <a:xfrm>
                <a:off x="142920" y="1357200"/>
                <a:ext cx="8820720" cy="485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3" name="AutoShape 4"/>
              <p:cNvSpPr/>
              <p:nvPr/>
            </p:nvSpPr>
            <p:spPr>
              <a:xfrm>
                <a:off x="285480" y="50004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Text Box 6"/>
              <p:cNvSpPr/>
              <p:nvPr/>
            </p:nvSpPr>
            <p:spPr>
              <a:xfrm>
                <a:off x="251280" y="1465200"/>
                <a:ext cx="8820720" cy="47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6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도시에 거주하지만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가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자체의 재정자립도 낮아 노인복지 한계로 농촌 노인문제 심화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구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.9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 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5" name="Picture 2" descr="C:\DOCUME~1\USER\LOCALS~1\Temp\UNI0000080471b7.gif"/>
            <p:cNvPicPr/>
            <p:nvPr/>
          </p:nvPicPr>
          <p:blipFill>
            <a:blip r:embed="rId8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858520" cy="6215400"/>
              <a:chOff x="142920" y="142560"/>
              <a:chExt cx="885852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1280" y="1149120"/>
                <a:ext cx="8750160" cy="50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이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당국은‘의도적으로 눈을 감아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중될 것으로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520"/>
            <a:chOff x="0" y="0"/>
            <a:chExt cx="9144000" cy="650052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560"/>
              <a:chOff x="142560" y="1785960"/>
              <a:chExt cx="8929800" cy="47145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85840"/>
            <a:ext cx="9001080" cy="6357960"/>
            <a:chOff x="0" y="285840"/>
            <a:chExt cx="900108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42560" y="285840"/>
              <a:ext cx="8858520" cy="5446800"/>
              <a:chOff x="142560" y="285840"/>
              <a:chExt cx="8858520" cy="544680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120" y="28584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42560" y="1143000"/>
                <a:ext cx="8858520" cy="450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285120" y="1197000"/>
                <a:ext cx="871596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nom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79280" y="0"/>
            <a:ext cx="8821800" cy="6438600"/>
            <a:chOff x="179280" y="0"/>
            <a:chExt cx="8821800" cy="643860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79280" y="3170160"/>
              <a:ext cx="8821800" cy="3268440"/>
              <a:chOff x="179280" y="3170160"/>
              <a:chExt cx="8821800" cy="326844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79280" y="3566880"/>
                <a:ext cx="878688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및 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기능과 사회적 역할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전후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각의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840" y="142560"/>
              <a:ext cx="728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2920" y="13186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% +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프리카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2920" y="42670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71280" y="71280"/>
            <a:ext cx="9215640" cy="6286680"/>
            <a:chOff x="71280" y="71280"/>
            <a:chExt cx="921564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1280" y="71280"/>
              <a:ext cx="9000000" cy="1847880"/>
              <a:chOff x="71280" y="71280"/>
              <a:chExt cx="900000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1280" y="642960"/>
                <a:ext cx="900000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480" y="71280"/>
                <a:ext cx="360072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63964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71280" y="2131920"/>
              <a:ext cx="9215640" cy="4226040"/>
              <a:chOff x="71280" y="2131920"/>
              <a:chExt cx="921564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128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142560" y="2786040"/>
                <a:ext cx="914436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1.0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9.8%)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47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grpSp>
          <p:nvGrpSpPr>
            <p:cNvPr id="515" name="그룹 1"/>
            <p:cNvGrpSpPr/>
            <p:nvPr/>
          </p:nvGrpSpPr>
          <p:grpSpPr>
            <a:xfrm>
              <a:off x="181080" y="214200"/>
              <a:ext cx="8820000" cy="4516560"/>
              <a:chOff x="181080" y="214200"/>
              <a:chExt cx="8820000" cy="4516560"/>
            </a:xfrm>
          </p:grpSpPr>
          <p:sp>
            <p:nvSpPr>
              <p:cNvPr id="516" name="AutoShape 2"/>
              <p:cNvSpPr/>
              <p:nvPr/>
            </p:nvSpPr>
            <p:spPr>
              <a:xfrm>
                <a:off x="181080" y="928440"/>
                <a:ext cx="8820000" cy="3724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288720" y="1000080"/>
                <a:ext cx="8640720" cy="37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2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7.6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.4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져 정책우선순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결정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19" name="Picture 2" descr="C:\DOCUME~1\USER\LOCALS~1\Temp\UNI00000c2870a4.gif"/>
            <p:cNvPicPr/>
            <p:nvPr/>
          </p:nvPicPr>
          <p:blipFill>
            <a:blip r:embed="rId6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19:41:32Z</dcterms:modified>
  <cp:revision>18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